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5391-B99D-45A1-8B92-735FDABA5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2679-2E0D-45FF-9850-527608D3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4CC9-279D-4AE4-BC6C-DDD9FE03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63E7-A18A-4007-95A7-88C59B109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8D09-661F-47A8-85A8-8FDA1687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F419-4DB2-4618-95EC-006398A8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5462-4419-4758-A2AC-2357822D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8211-CAF5-4526-94C6-5E12218E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27C7-1AB7-425B-89F5-506AD114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C40A-96B1-40C7-B063-A708A36D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B780-397B-4E41-A456-250F5A9A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538F-62D8-45D5-BD2E-385B0E00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B189-ADED-4A6D-A51D-E5131C84D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eath Hol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long can you hold your brea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you hold your breath better when you are sitting down or standing 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predict that people will hold their breath better when they are sitting down than when they are standing up because when you are sitting down you are more relax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p 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per and pen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73760" y="409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ather all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ll the people I am testing what they are going to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st a person while he/she is stan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st a person while he/she is si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5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ord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6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st that person again standing and si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7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ord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8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d their average for sitting and standing sepa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9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eat procedure with the rest of my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Independ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ether you are sitting or 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Depend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ich you hold your breath longer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438280" y="1150920"/>
          <a:ext cx="4114800" cy="5402160"/>
        </p:xfrm>
        <a:graphic>
          <a:graphicData uri="http://schemas.openxmlformats.org/drawingml/2006/table">
            <a:tbl>
              <a:tblPr/>
              <a:tblGrid>
                <a:gridCol w="1219320"/>
                <a:gridCol w="1523880"/>
                <a:gridCol w="13716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Standing Aver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Sitting Aver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Aubr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39.7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29.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Dani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39.6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43.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Aid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32.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39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Lay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93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76.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Log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60.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51.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Za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50.1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51.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Ab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36.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36.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Tann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24.4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25.5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Wyat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65.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96.1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Rach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31.6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37.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6934320" y="2262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114300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8320" y="106668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6080" y="835200"/>
            <a:ext cx="357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69160" y="107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hypothesis was mostly correct. 3/5 or 60% of the people held their breath better when they were sitting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6:19:44Z</dcterms:created>
  <dc:creator>STERLING  USD376</dc:creator>
  <dc:description/>
  <dc:language>en-US</dc:language>
  <cp:lastModifiedBy>USD376</cp:lastModifiedBy>
  <dcterms:modified xsi:type="dcterms:W3CDTF">2010-02-09T15:56:49Z</dcterms:modified>
  <cp:revision>8</cp:revision>
  <dc:subject/>
  <dc:title>Breath Holding</dc:title>
</cp:coreProperties>
</file>